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5597-6A92-4DAB-98E6-2DA574EDA2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ACDD-8116-4EBD-9938-15D47DF4E0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6DF-B5CA-417A-AEBD-E72F1D0A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E6D-F3A2-4DB2-BE06-452A1FE1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D25-9A78-401D-AA2F-850833C0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11B-AC83-482C-BC7C-F291CDEE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5D19-1685-421F-9AD1-7479948E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E08F-6A6B-4848-9F40-CA28DFFA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EA65-C7F6-46EC-82E0-BEDEE2CE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0A40-7F9F-4C6E-9EB5-F1E9A28B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3B3C-0AD1-4F49-A832-41105715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0802-BB1F-402D-8B0B-87A2B72A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F9F7-CF3B-4160-AC5D-6CD07A89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511-F887-4B07-AE0A-5039A7CD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82F9-FAA2-4613-9E56-5A70047B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6BA7-818D-4234-8D96-AA2A8EE5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0333-4647-4722-897B-98EF5D7D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2857-34FC-4898-8FA5-0A033880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CEC5-1A9E-4600-9460-DE63FFC5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681F3-A10C-49B5-9DC5-2BC2F41A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E8E83-9CFF-47DD-8BDC-CCA3EA39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69067-DD35-4F9A-BF82-D8C860C7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1BCD1-5D4D-434D-B093-FD9F145B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A5687-69CB-411D-BD2E-6DB91F1F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97B-9F0A-45E3-A6CC-985CAFC4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5D659-B878-4AB8-9FBD-1FFDA2D9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26B9B-DFD6-4651-8C8A-7757A22A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09DF-1E63-4695-B81F-D1B731A6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27B0-CF16-4E09-BFAC-B4DEAA1B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19EF4-586A-4015-9245-EFC188AE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4865-2475-487D-8BA8-9CF9C6FC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C5F5-685A-4031-9B82-F965B5FB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691B-D2F6-4A56-BA39-F5515CC9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57970-8C4D-4788-8E1E-93F57A3E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D8AFD-5941-42E8-BDE2-39BC3CF3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D70-7679-4A3A-B612-6CE02ED6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DB966-3B61-4BD7-BA5E-B0439DBB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09352-53E2-4E75-AB22-150892BF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654AD-2831-4C7D-9751-C706EF52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BB8E6-E5F6-4030-B12F-1767F4BB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AFEF-B3E3-40D1-A7CB-46402723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EE68-0C9F-4E29-8EA9-8D7E6E1B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0D8BE-C8FB-401B-94EC-B8935D64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840BC-C986-4CFA-AAB9-CCC470DF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A47D4-5BFA-4A4E-A263-548F0320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DB886-CE85-45E0-BB8D-A8037EAF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B49-1CAF-44B9-BF0A-43E92E67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C660E-FA45-4CAF-9C35-0037E952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2365C-83B2-4D63-AF20-F06B035A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1D0C7-D68D-49C8-82C1-4D1B3EDC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666DC-7538-4ABA-9FD3-03F21833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AC88B-B03F-4880-8B9E-FF4844C9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A58B7-9519-46B5-A082-B915FD5D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D69C4-F4D1-4A64-AA7A-9F2C6FE1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726CB-6DE0-4F9B-9BF9-FB84AF1C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99944-F89E-4995-98BF-B549AC63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E2C18-1937-4CDA-8237-A9076011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0F8-D339-4898-BBD3-C46874A6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F20A0-ABC0-42A1-BDD1-41DD5F03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817-5386-43C7-B582-A3129F1E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FA0-54C2-4690-BF80-DF23689A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8C0-8AC3-41DF-AA83-8461888F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1A96-3AD2-487F-89BD-350C6B81346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5D50-0D69-47A0-BFC7-CD7E901E004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8E27-0F53-4687-896F-79694DBED80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FF6A-2536-4203-A61E-29A67B2AA97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EBD7-5CD2-4F3F-A289-895BB7F870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 1-2\Последовательность выполнения углов. «лесная поляна».jpg"/>
          <p:cNvPicPr/>
          <p:nvPr/>
        </p:nvPicPr>
        <p:blipFill>
          <a:blip r:embed="rId1"/>
          <a:stretch/>
        </p:blipFill>
        <p:spPr>
          <a:xfrm>
            <a:off x="2411280" y="973080"/>
            <a:ext cx="396108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15T09:55:31Z</dcterms:modified>
  <cp:revision>32</cp:revision>
  <dc:subject/>
  <dc:title>ТВОРЧЕСКАЯ ДЕЯТЕЛЬНОСТЬ: ЗНАКОМСТВО С ТЕХНИКОЙ ИЗОНИТЬ</dc:title>
</cp:coreProperties>
</file>